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F75-B748-4C22-B7E0-91DB1F66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C7C-86AD-4C1E-BC74-C48AAB56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57E-EC67-4F65-8813-EE1A1339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C70-43BF-4F19-87B6-1BCC51F0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172-8C26-4827-A71C-3C30A460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C91-9A73-467E-821A-49ECC4F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D49-DD77-4416-A6AC-7A2BB0D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BB2-D47D-40B0-BF31-513EF642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3F7-7659-426F-B8E8-885DC3B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76D-BD9C-42B2-8FB6-A747788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E9F-7723-431F-848F-563E9C12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53F-8FBC-439B-9E2C-24EE602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EFC3CF-5C15-4526-8292-D658BF237AE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Table 7.1.jpg"/>
          <p:cNvPicPr/>
          <p:nvPr/>
        </p:nvPicPr>
        <p:blipFill>
          <a:blip r:embed="rId1"/>
          <a:stretch/>
        </p:blipFill>
        <p:spPr>
          <a:xfrm>
            <a:off x="1625760" y="0"/>
            <a:ext cx="5890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7.2.jpg"/>
          <p:cNvPicPr/>
          <p:nvPr/>
        </p:nvPicPr>
        <p:blipFill>
          <a:blip r:embed="rId1"/>
          <a:stretch/>
        </p:blipFill>
        <p:spPr>
          <a:xfrm>
            <a:off x="1585800" y="0"/>
            <a:ext cx="5971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1:04Z</dcterms:created>
  <dc:creator>Administrator</dc:creator>
  <dc:description/>
  <dc:language>en-US</dc:language>
  <cp:lastModifiedBy>Administrator</cp:lastModifiedBy>
  <dcterms:modified xsi:type="dcterms:W3CDTF">2012-04-04T09:31:1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